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52456-3D74-48F3-B457-BBA3E3BB37C2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Polynomial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the polynomials in standard fo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:  The lead coefficient should be positive in standard fo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do this, multiply the polynomial by –1 using the distributive property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Example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Write the polynomials in standard form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Remember:  The lead coefficient should be positive in standard form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o do this, multiply the polynomial by –1 using the distributive property.  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ac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the polynomials in standard form and identify the polynomial by degree and number of ter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Practice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Write the polynomials in standard form and identify the polynomial by degree and number of terms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1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2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3rd degree, or cubic, tri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Problem 1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his is a 3rd degree, or cubic, trinomial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2nd  degree, or quadratic, tri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Problem 2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his is a 2nd  degree, or quadratic, trinomial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 able to determine the degree of a poly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 able to classify a poly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 able to write a polynomial in standard fo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Objective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Be able to determine the degree of a polynomial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Be able to classify a polynomial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Be able to write a polynomial in standard form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cabul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omial:  A number, a variable or the product of a number and one or more variab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nomial:  A monomial or a sum of monomi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nomial:  A polynomial with exactly two ter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nomial:  A polynomial with exactly three ter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efficient:  A numerical factor in a term of an algebraic expres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Vocabulary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Monomial:  A number, a variable or the product of a number and one or more variables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Polynomial:  A monomial or a sum of monomials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Binomial:  A polynomial with exactly two terms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rinomial:  A polynomial with exactly three terms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Coefficient:  A numerical factor in a term of an algebraic expression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cabul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gree of a monomial:  The sum of the exponents of all of the variables in the mo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gree of a polynomial in one variable:  The largest exponent of that vari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ndard form:  When the terms of a polynomial are arranged from the largest exponent to the smallest exponent in decreasing ord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Vocabulary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Degree of a monomial:  The sum of the exponents of all of the variables in the monomial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Degree of a polynomial in one variable:  The largest exponent of that variable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Standard form:  When the terms of a polynomial are arranged from the largest exponent to the smallest exponent in decreasing order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gree of a Mo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degree of the monomial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egree of a monomial is the sum of the exponents of the variables in the mo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xponents of each variable are 4 and 2.  4+2 = 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egree of the monomial is 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nomial can be referred to as a sixth degree mo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Degree of a Monomial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What is the degree of the monomial?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he degree of a monomial is the sum of the exponents of the variables in the monomial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he exponents of each variable are 4 and 2.  4+2 = 6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he degree of the monomial is 6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he monomial can be referred to as a sixth degree monomial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nomials in One Vari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lynomial is a monomial or the sum of mo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monomial in a polynomial is a term of the poly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factor of a term is called the coeffici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efficient of the first term in a polynomial is the lead coeffici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lynomial with two terms is called a bi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lynomial with three terms is called a tri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Polynomials in One Variable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A polynomial is a monomial or the sum of monomial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Each monomial in a polynomial is a term of the polynomial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he number factor of a term is called the coefficient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he coefficient of the first term in a polynomial is the lead coefficient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A polynomial with two terms is called a binomial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A polynomial with three terms is called a trinomial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nomials in One Vari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egree of a polynomial in one variable is the largest exponent of that vari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nstant has no variable.  It is a 0 degree poly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1st degree polynomial.  1st degree polynomials are line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2nd degree polynomial.  2nd degree polynomials are quadrat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3rd degree polynomial.  3rd degree polynomials are cub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Polynomials in One Variable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he degree of a polynomial in one variable is the largest exponent of that variable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A constant has no variable.  It is a 0 degree polynomial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his is a 1st degree polynomial.  1st degree polynomials are linear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his is a 2nd degree polynomial.  2nd degree polynomials are quadratic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his is a 3rd degree polynomial.  3rd degree polynomials are cubic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lassify the polynomials by degree and number of ter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ly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eg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lassify by deg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lassify by number of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Ze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nst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o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ir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in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eco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adra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i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ub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r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Classify the polynomials by degree and number of terms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Example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Polynomial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a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b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c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d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Degree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Classify by degree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Classify by number of term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Zero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Constant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Monomial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First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Linear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Binomial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Second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Quadratic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Binomial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Third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Cubic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Trinomial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ndard Fo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rewrite a polynomial in standard form, rearrange the terms of the polynomial starting with the largest degree term and ending with the lowest degree ter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eading coefficient, the coefficient of the first term in a polynomial written in standard form, should be posit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Standard For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o rewrite a polynomial in standard form, rearrange the terms of the polynomial starting with the largest degree term and ending with the lowest degree term. 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he leading coefficient, the coefficient of the first term in a polynomial written in standard form, should be positive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2470-17A4-44E8-8DE3-6417B8E18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CC65-6F91-4277-B897-7D156CCE8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A7C7-5CAC-4AB3-AEB1-C06F0F464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2C3E-91FA-4138-B38D-A689148E4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FF81B-2339-43B8-A383-6861A4ED6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385E5-9664-4173-82DA-40AA55442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A373D-48F5-4EF1-8560-186D23492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C898B-0A6B-4031-BB20-EEE020F20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F10D7-F359-4F14-B505-CF0BDA977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EBAD7-D73C-4FCC-AB96-DD4EEEAEF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A8385-6E96-4C9B-AEC2-51A94B850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C92B-B1C6-4E4C-81DE-9A5976D25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472C9-ED58-45E1-A1F7-720A7ED86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C87E6-A4FA-4E67-A9A7-DAE20DF34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F447F-B49C-4680-AC11-A1DFF7692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BD330-8E9F-41B1-BF07-A4481B5C0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4AFEC-A027-4D7F-84B9-87A0650AF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4339-FABC-43FD-9D6D-49EE3A50A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D443-0416-4690-93E9-FDEC0CEFE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93DA-B2AC-4B90-89D2-A66DD7D34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45DC-6096-463A-ABD8-200538611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28A6-D0A2-43EF-9ACD-D6D73E6C4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2027-F926-484C-B996-45D48A6E7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27B6-4E82-4A37-925B-29785A59F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605E4-51F7-4E28-AADA-96545632425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6"/>
              <p:cNvSpPr/>
              <p:nvPr/>
            </p:nvSpPr>
            <p:spPr>
              <a:xfrm rot="5400000">
                <a:off x="8090640" y="53125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97905-915D-4EE6-8621-95A129119CD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WordArt 3"/>
          <p:cNvSpPr txBox="1"/>
          <p:nvPr/>
        </p:nvSpPr>
        <p:spPr>
          <a:xfrm>
            <a:off x="914400" y="1828800"/>
            <a:ext cx="594360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08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olynomial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0" name="Object 2"/>
              <p:cNvSpPr txBox="1"/>
              <p:nvPr/>
            </p:nvSpPr>
            <p:spPr>
              <a:xfrm>
                <a:off x="1295280" y="2209680"/>
                <a:ext cx="265284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1" name="WordArt 3"/>
          <p:cNvSpPr txBox="1"/>
          <p:nvPr/>
        </p:nvSpPr>
        <p:spPr>
          <a:xfrm>
            <a:off x="609480" y="304920"/>
            <a:ext cx="5105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660066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xamples</a:t>
            </a:r>
            <a:endParaRPr b="0" lang="en-US" sz="2400" spc="1" strike="noStrike">
              <a:ln w="28440">
                <a:solidFill>
                  <a:srgbClr val="660066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Object 7"/>
              <p:cNvSpPr txBox="1"/>
              <p:nvPr/>
            </p:nvSpPr>
            <p:spPr>
              <a:xfrm>
                <a:off x="2666880" y="3352680"/>
                <a:ext cx="77652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Object 8"/>
              <p:cNvSpPr txBox="1"/>
              <p:nvPr/>
            </p:nvSpPr>
            <p:spPr>
              <a:xfrm>
                <a:off x="1371600" y="3276720"/>
                <a:ext cx="64620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Object 9"/>
              <p:cNvSpPr txBox="1"/>
              <p:nvPr/>
            </p:nvSpPr>
            <p:spPr>
              <a:xfrm>
                <a:off x="1981080" y="3276720"/>
                <a:ext cx="74448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Object 10"/>
              <p:cNvSpPr txBox="1"/>
              <p:nvPr/>
            </p:nvSpPr>
            <p:spPr>
              <a:xfrm>
                <a:off x="3429000" y="3352680"/>
                <a:ext cx="58248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6" name="Rectangle 12"/>
          <p:cNvSpPr/>
          <p:nvPr/>
        </p:nvSpPr>
        <p:spPr>
          <a:xfrm>
            <a:off x="1219320" y="2133720"/>
            <a:ext cx="2819160" cy="1904760"/>
          </a:xfrm>
          <a:prstGeom prst="rect">
            <a:avLst/>
          </a:prstGeom>
          <a:noFill/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7" name="Text Box 13"/>
          <p:cNvSpPr/>
          <p:nvPr/>
        </p:nvSpPr>
        <p:spPr>
          <a:xfrm>
            <a:off x="1219320" y="160020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Write the polynomials in standard form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8" name="Rectangle 14"/>
          <p:cNvSpPr/>
          <p:nvPr/>
        </p:nvSpPr>
        <p:spPr>
          <a:xfrm>
            <a:off x="4343400" y="2133720"/>
            <a:ext cx="4267080" cy="4267080"/>
          </a:xfrm>
          <a:prstGeom prst="rect">
            <a:avLst/>
          </a:prstGeom>
          <a:noFill/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Object 15"/>
              <p:cNvSpPr txBox="1"/>
              <p:nvPr/>
            </p:nvSpPr>
            <p:spPr>
              <a:xfrm>
                <a:off x="4724280" y="2362320"/>
                <a:ext cx="353088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Object 20"/>
              <p:cNvSpPr txBox="1"/>
              <p:nvPr/>
            </p:nvSpPr>
            <p:spPr>
              <a:xfrm>
                <a:off x="5257800" y="3200400"/>
                <a:ext cx="93996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Object 21"/>
              <p:cNvSpPr txBox="1"/>
              <p:nvPr/>
            </p:nvSpPr>
            <p:spPr>
              <a:xfrm>
                <a:off x="4648320" y="3200400"/>
                <a:ext cx="74448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Object 22"/>
              <p:cNvSpPr txBox="1"/>
              <p:nvPr/>
            </p:nvSpPr>
            <p:spPr>
              <a:xfrm>
                <a:off x="7620120" y="3276720"/>
                <a:ext cx="582480" cy="45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23"/>
              <p:cNvSpPr txBox="1"/>
              <p:nvPr/>
            </p:nvSpPr>
            <p:spPr>
              <a:xfrm>
                <a:off x="6858000" y="3276720"/>
                <a:ext cx="776160" cy="45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Object 24"/>
              <p:cNvSpPr txBox="1"/>
              <p:nvPr/>
            </p:nvSpPr>
            <p:spPr>
              <a:xfrm>
                <a:off x="6095880" y="3200400"/>
                <a:ext cx="9381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Object 30"/>
              <p:cNvSpPr txBox="1"/>
              <p:nvPr/>
            </p:nvSpPr>
            <p:spPr>
              <a:xfrm>
                <a:off x="4419720" y="4648320"/>
                <a:ext cx="41148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Object 33"/>
              <p:cNvSpPr txBox="1"/>
              <p:nvPr/>
            </p:nvSpPr>
            <p:spPr>
              <a:xfrm>
                <a:off x="5257800" y="5562720"/>
                <a:ext cx="90792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Object 34"/>
              <p:cNvSpPr txBox="1"/>
              <p:nvPr/>
            </p:nvSpPr>
            <p:spPr>
              <a:xfrm>
                <a:off x="4776840" y="5562720"/>
                <a:ext cx="45396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Object 35"/>
              <p:cNvSpPr txBox="1"/>
              <p:nvPr/>
            </p:nvSpPr>
            <p:spPr>
              <a:xfrm>
                <a:off x="7588080" y="5638680"/>
                <a:ext cx="61596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Object 36"/>
              <p:cNvSpPr txBox="1"/>
              <p:nvPr/>
            </p:nvSpPr>
            <p:spPr>
              <a:xfrm>
                <a:off x="6842160" y="5638680"/>
                <a:ext cx="77616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Object 37"/>
              <p:cNvSpPr txBox="1"/>
              <p:nvPr/>
            </p:nvSpPr>
            <p:spPr>
              <a:xfrm>
                <a:off x="6095880" y="5562720"/>
                <a:ext cx="90648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11" name="AutoShape 51"/>
          <p:cNvSpPr/>
          <p:nvPr/>
        </p:nvSpPr>
        <p:spPr>
          <a:xfrm>
            <a:off x="4724280" y="4191120"/>
            <a:ext cx="609840" cy="504720"/>
          </a:xfrm>
          <a:custGeom>
            <a:avLst/>
            <a:gdLst>
              <a:gd name="textAreaLeft" fmla="*/ 122040 w 609840"/>
              <a:gd name="textAreaRight" fmla="*/ 369720 w 609840"/>
              <a:gd name="textAreaTop" fmla="*/ 67320 h 504720"/>
              <a:gd name="textAreaBottom" fmla="*/ 437400 h 504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640" hR="21600" stAng="10800000" swAng="5400000"/>
                <a:lnTo>
                  <a:pt x="8768" y="0"/>
                </a:lnTo>
                <a:arcTo wR="8640" hR="21600" stAng="-5400000" swAng="1144127"/>
                <a:lnTo>
                  <a:pt x="18609" y="5257"/>
                </a:lnTo>
                <a:lnTo>
                  <a:pt x="17344" y="21600"/>
                </a:lnTo>
                <a:lnTo>
                  <a:pt x="10097" y="5257"/>
                </a:lnTo>
                <a:lnTo>
                  <a:pt x="14289" y="5257"/>
                </a:lnTo>
                <a:arcTo wR="8640" hR="21600" stAng="-4255873" swAng="-1133941"/>
                <a:lnTo>
                  <a:pt x="8704" y="1"/>
                </a:lnTo>
                <a:arcTo wR="8640" hR="21600" stAng="-5410186" swAng="-5389814"/>
                <a:close/>
              </a:path>
              <a:path fill="darkenLess" w="21600" h="21600">
                <a:moveTo>
                  <a:pt x="0" y="21600"/>
                </a:moveTo>
                <a:arcTo wR="8640" hR="21600" stAng="10800000" swAng="5400000"/>
                <a:lnTo>
                  <a:pt x="8640" y="0"/>
                </a:lnTo>
                <a:arcTo wR="8640" hR="21600" stAng="-5400000" swAng="10186"/>
                <a:lnTo>
                  <a:pt x="8704" y="1"/>
                </a:lnTo>
                <a:arcTo wR="8640" hR="21600" stAng="-5410186" swAng="-5389814"/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2" name="AutoShape 52"/>
          <p:cNvSpPr/>
          <p:nvPr/>
        </p:nvSpPr>
        <p:spPr>
          <a:xfrm>
            <a:off x="4724280" y="4191120"/>
            <a:ext cx="1600200" cy="533160"/>
          </a:xfrm>
          <a:custGeom>
            <a:avLst/>
            <a:gdLst>
              <a:gd name="textAreaLeft" fmla="*/ 320040 w 1600200"/>
              <a:gd name="textAreaRight" fmla="*/ 969480 w 160020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640" hR="21600" stAng="10800000" swAng="5400000"/>
                <a:lnTo>
                  <a:pt x="8768" y="0"/>
                </a:lnTo>
                <a:arcTo wR="8640" hR="21600" stAng="-5400000" swAng="1144127"/>
                <a:lnTo>
                  <a:pt x="18609" y="5257"/>
                </a:lnTo>
                <a:lnTo>
                  <a:pt x="17344" y="21600"/>
                </a:lnTo>
                <a:lnTo>
                  <a:pt x="10097" y="5257"/>
                </a:lnTo>
                <a:lnTo>
                  <a:pt x="14289" y="5257"/>
                </a:lnTo>
                <a:arcTo wR="8640" hR="21600" stAng="-4255873" swAng="-1133941"/>
                <a:lnTo>
                  <a:pt x="8704" y="1"/>
                </a:lnTo>
                <a:arcTo wR="8640" hR="21600" stAng="-5410186" swAng="-5389814"/>
                <a:close/>
              </a:path>
              <a:path fill="darkenLess" w="21600" h="21600">
                <a:moveTo>
                  <a:pt x="0" y="21600"/>
                </a:moveTo>
                <a:arcTo wR="8640" hR="21600" stAng="10800000" swAng="5400000"/>
                <a:lnTo>
                  <a:pt x="8640" y="0"/>
                </a:lnTo>
                <a:arcTo wR="8640" hR="21600" stAng="-5400000" swAng="10186"/>
                <a:lnTo>
                  <a:pt x="8704" y="1"/>
                </a:lnTo>
                <a:arcTo wR="8640" hR="21600" stAng="-5410186" swAng="-5389814"/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3" name="AutoShape 53"/>
          <p:cNvSpPr/>
          <p:nvPr/>
        </p:nvSpPr>
        <p:spPr>
          <a:xfrm>
            <a:off x="4724280" y="4191120"/>
            <a:ext cx="2743200" cy="504720"/>
          </a:xfrm>
          <a:custGeom>
            <a:avLst/>
            <a:gdLst>
              <a:gd name="textAreaLeft" fmla="*/ 548640 w 2743200"/>
              <a:gd name="textAreaRight" fmla="*/ 1662120 w 2743200"/>
              <a:gd name="textAreaTop" fmla="*/ 67320 h 504720"/>
              <a:gd name="textAreaBottom" fmla="*/ 437400 h 504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640" hR="21600" stAng="10800000" swAng="5400000"/>
                <a:lnTo>
                  <a:pt x="8768" y="0"/>
                </a:lnTo>
                <a:arcTo wR="8640" hR="21600" stAng="-5400000" swAng="1144127"/>
                <a:lnTo>
                  <a:pt x="18609" y="5257"/>
                </a:lnTo>
                <a:lnTo>
                  <a:pt x="17344" y="21600"/>
                </a:lnTo>
                <a:lnTo>
                  <a:pt x="10097" y="5257"/>
                </a:lnTo>
                <a:lnTo>
                  <a:pt x="14289" y="5257"/>
                </a:lnTo>
                <a:arcTo wR="8640" hR="21600" stAng="-4255873" swAng="-1133941"/>
                <a:lnTo>
                  <a:pt x="8704" y="1"/>
                </a:lnTo>
                <a:arcTo wR="8640" hR="21600" stAng="-5410186" swAng="-5389814"/>
                <a:close/>
              </a:path>
              <a:path fill="darkenLess" w="21600" h="21600">
                <a:moveTo>
                  <a:pt x="0" y="21600"/>
                </a:moveTo>
                <a:arcTo wR="8640" hR="21600" stAng="10800000" swAng="5400000"/>
                <a:lnTo>
                  <a:pt x="8640" y="0"/>
                </a:lnTo>
                <a:arcTo wR="8640" hR="21600" stAng="-5400000" swAng="10186"/>
                <a:lnTo>
                  <a:pt x="8704" y="1"/>
                </a:lnTo>
                <a:arcTo wR="8640" hR="21600" stAng="-5410186" swAng="-5389814"/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4" name="AutoShape 54"/>
          <p:cNvSpPr/>
          <p:nvPr/>
        </p:nvSpPr>
        <p:spPr>
          <a:xfrm>
            <a:off x="4724280" y="4191120"/>
            <a:ext cx="3657600" cy="504720"/>
          </a:xfrm>
          <a:custGeom>
            <a:avLst/>
            <a:gdLst>
              <a:gd name="textAreaLeft" fmla="*/ 731520 w 3657600"/>
              <a:gd name="textAreaRight" fmla="*/ 2216160 w 3657600"/>
              <a:gd name="textAreaTop" fmla="*/ 67320 h 504720"/>
              <a:gd name="textAreaBottom" fmla="*/ 437400 h 504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640" hR="21600" stAng="10800000" swAng="5400000"/>
                <a:lnTo>
                  <a:pt x="8768" y="0"/>
                </a:lnTo>
                <a:arcTo wR="8640" hR="21600" stAng="-5400000" swAng="1144127"/>
                <a:lnTo>
                  <a:pt x="18609" y="5257"/>
                </a:lnTo>
                <a:lnTo>
                  <a:pt x="17344" y="21600"/>
                </a:lnTo>
                <a:lnTo>
                  <a:pt x="10097" y="5257"/>
                </a:lnTo>
                <a:lnTo>
                  <a:pt x="14289" y="5257"/>
                </a:lnTo>
                <a:arcTo wR="8640" hR="21600" stAng="-4255873" swAng="-1133941"/>
                <a:lnTo>
                  <a:pt x="8704" y="1"/>
                </a:lnTo>
                <a:arcTo wR="8640" hR="21600" stAng="-5410186" swAng="-5389814"/>
                <a:close/>
              </a:path>
              <a:path fill="darkenLess" w="21600" h="21600">
                <a:moveTo>
                  <a:pt x="0" y="21600"/>
                </a:moveTo>
                <a:arcTo wR="8640" hR="21600" stAng="10800000" swAng="5400000"/>
                <a:lnTo>
                  <a:pt x="8640" y="0"/>
                </a:lnTo>
                <a:arcTo wR="8640" hR="21600" stAng="-5400000" swAng="10186"/>
                <a:lnTo>
                  <a:pt x="8704" y="1"/>
                </a:lnTo>
                <a:arcTo wR="8640" hR="21600" stAng="-5410186" swAng="-5389814"/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5" name="AutoShape 55"/>
          <p:cNvSpPr/>
          <p:nvPr/>
        </p:nvSpPr>
        <p:spPr>
          <a:xfrm>
            <a:off x="4724280" y="4191120"/>
            <a:ext cx="4267440" cy="504720"/>
          </a:xfrm>
          <a:custGeom>
            <a:avLst/>
            <a:gdLst>
              <a:gd name="textAreaLeft" fmla="*/ 853560 w 4267440"/>
              <a:gd name="textAreaRight" fmla="*/ 2585880 w 4267440"/>
              <a:gd name="textAreaTop" fmla="*/ 67320 h 504720"/>
              <a:gd name="textAreaBottom" fmla="*/ 437400 h 504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640" hR="21600" stAng="10800000" swAng="5400000"/>
                <a:lnTo>
                  <a:pt x="8768" y="0"/>
                </a:lnTo>
                <a:arcTo wR="8640" hR="21600" stAng="-5400000" swAng="1144127"/>
                <a:lnTo>
                  <a:pt x="18609" y="5257"/>
                </a:lnTo>
                <a:lnTo>
                  <a:pt x="17344" y="21600"/>
                </a:lnTo>
                <a:lnTo>
                  <a:pt x="10097" y="5257"/>
                </a:lnTo>
                <a:lnTo>
                  <a:pt x="14289" y="5257"/>
                </a:lnTo>
                <a:arcTo wR="8640" hR="21600" stAng="-4255873" swAng="-1133941"/>
                <a:lnTo>
                  <a:pt x="8704" y="1"/>
                </a:lnTo>
                <a:arcTo wR="8640" hR="21600" stAng="-5410186" swAng="-5389814"/>
                <a:close/>
              </a:path>
              <a:path fill="darkenLess" w="21600" h="21600">
                <a:moveTo>
                  <a:pt x="0" y="21600"/>
                </a:moveTo>
                <a:arcTo wR="8640" hR="21600" stAng="10800000" swAng="5400000"/>
                <a:lnTo>
                  <a:pt x="8640" y="0"/>
                </a:lnTo>
                <a:arcTo wR="8640" hR="21600" stAng="-5400000" swAng="10186"/>
                <a:lnTo>
                  <a:pt x="8704" y="1"/>
                </a:lnTo>
                <a:arcTo wR="8640" hR="21600" stAng="-5410186" swAng="-5389814"/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6" name="AutoShape 56"/>
          <p:cNvSpPr/>
          <p:nvPr/>
        </p:nvSpPr>
        <p:spPr>
          <a:xfrm>
            <a:off x="152280" y="4114800"/>
            <a:ext cx="4191120" cy="2514600"/>
          </a:xfrm>
          <a:prstGeom prst="cloudCallout">
            <a:avLst>
              <a:gd name="adj1" fmla="val 53523"/>
              <a:gd name="adj2" fmla="val -74050"/>
            </a:avLst>
          </a:prstGeom>
          <a:solidFill>
            <a:srgbClr val="cfdbfd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7" name="Text Box 57"/>
          <p:cNvSpPr/>
          <p:nvPr/>
        </p:nvSpPr>
        <p:spPr>
          <a:xfrm>
            <a:off x="838080" y="4495680"/>
            <a:ext cx="2514600" cy="21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66"/>
                </a:solidFill>
                <a:latin typeface="Tahoma"/>
              </a:rPr>
              <a:t>Remember:  The lead coefficient should be positive in standard form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66"/>
                </a:solidFill>
                <a:latin typeface="Tahoma"/>
              </a:rPr>
              <a:t>To do this, multiply the polynomial by –1 using the distributive property.</a:t>
            </a: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 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8" name="Line 60"/>
          <p:cNvSpPr/>
          <p:nvPr/>
        </p:nvSpPr>
        <p:spPr>
          <a:xfrm>
            <a:off x="1523880" y="2514600"/>
            <a:ext cx="1676520" cy="106668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9" name="Line 61"/>
          <p:cNvSpPr/>
          <p:nvPr/>
        </p:nvSpPr>
        <p:spPr>
          <a:xfrm flipH="1">
            <a:off x="1599840" y="2514600"/>
            <a:ext cx="685800" cy="106668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0" name="Line 63"/>
          <p:cNvSpPr/>
          <p:nvPr/>
        </p:nvSpPr>
        <p:spPr>
          <a:xfrm flipH="1">
            <a:off x="2437920" y="2514600"/>
            <a:ext cx="685800" cy="106668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1" name="Line 64"/>
          <p:cNvSpPr/>
          <p:nvPr/>
        </p:nvSpPr>
        <p:spPr>
          <a:xfrm>
            <a:off x="3809880" y="2514600"/>
            <a:ext cx="0" cy="106668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2" name="Line 66"/>
          <p:cNvSpPr/>
          <p:nvPr/>
        </p:nvSpPr>
        <p:spPr>
          <a:xfrm>
            <a:off x="4952880" y="2666880"/>
            <a:ext cx="838440" cy="83844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3" name="Line 67"/>
          <p:cNvSpPr/>
          <p:nvPr/>
        </p:nvSpPr>
        <p:spPr>
          <a:xfrm flipH="1">
            <a:off x="5105160" y="2666880"/>
            <a:ext cx="685800" cy="83844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4" name="Line 68"/>
          <p:cNvSpPr/>
          <p:nvPr/>
        </p:nvSpPr>
        <p:spPr>
          <a:xfrm>
            <a:off x="6477120" y="2666880"/>
            <a:ext cx="1523880" cy="83844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5" name="Line 69"/>
          <p:cNvSpPr/>
          <p:nvPr/>
        </p:nvSpPr>
        <p:spPr>
          <a:xfrm>
            <a:off x="7162920" y="2666880"/>
            <a:ext cx="228600" cy="83844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6" name="Line 70"/>
          <p:cNvSpPr/>
          <p:nvPr/>
        </p:nvSpPr>
        <p:spPr>
          <a:xfrm flipH="1">
            <a:off x="6629040" y="2666880"/>
            <a:ext cx="1219320" cy="83844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305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3550"/>
                            </p:stCondLst>
                            <p:childTnLst>
                              <p:par>
                                <p:cTn id="3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4050"/>
                            </p:stCondLst>
                            <p:childTnLst>
                              <p:par>
                                <p:cTn id="325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8" dur="1" fill="hold">
                                    <p:stCondLst>
                                      <p:cond evt="end">
                                        <p:tn val="325"/>
                                      </p:cond>
                                    </p:stCondLst>
                                  </p:cTn>
                                  <p:tgtEl>
                                    <p:spTgt spid="3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7550"/>
                            </p:stCondLst>
                            <p:childTnLst>
                              <p:par>
                                <p:cTn id="3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8050"/>
                            </p:stCondLst>
                            <p:childTnLst>
                              <p:par>
                                <p:cTn id="334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37" dur="1" fill="hold">
                                    <p:stCondLst>
                                      <p:cond evt="end">
                                        <p:tn val="334"/>
                                      </p:cond>
                                    </p:stCondLst>
                                  </p:cTn>
                                  <p:tgtEl>
                                    <p:spTgt spid="3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11550"/>
                            </p:stCondLst>
                            <p:childTnLst>
                              <p:par>
                                <p:cTn id="3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12050"/>
                            </p:stCondLst>
                            <p:childTnLst>
                              <p:par>
                                <p:cTn id="343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6" dur="1" fill="hold">
                                    <p:stCondLst>
                                      <p:cond evt="end">
                                        <p:tn val="343"/>
                                      </p:cond>
                                    </p:stCondLst>
                                  </p:cTn>
                                  <p:tgtEl>
                                    <p:spTgt spid="3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15550"/>
                            </p:stCondLst>
                            <p:childTnLst>
                              <p:par>
                                <p:cTn id="3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16050"/>
                            </p:stCondLst>
                            <p:childTnLst>
                              <p:par>
                                <p:cTn id="352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55" dur="1" fill="hold">
                                    <p:stCondLst>
                                      <p:cond evt="end">
                                        <p:tn val="352"/>
                                      </p:cond>
                                    </p:stCondLst>
                                  </p:cTn>
                                  <p:tgtEl>
                                    <p:spTgt spid="3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19550"/>
                            </p:stCondLst>
                            <p:childTnLst>
                              <p:par>
                                <p:cTn id="3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2005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2355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24050"/>
                            </p:stCondLst>
                            <p:childTnLst>
                              <p:par>
                                <p:cTn id="368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1" dur="1" fill="hold">
                                    <p:stCondLst>
                                      <p:cond evt="end">
                                        <p:tn val="368"/>
                                      </p:cond>
                                    </p:stCondLst>
                                  </p:cTn>
                                  <p:tgtEl>
                                    <p:spTgt spid="3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27550"/>
                            </p:stCondLst>
                            <p:childTnLst>
                              <p:par>
                                <p:cTn id="3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28050"/>
                            </p:stCondLst>
                            <p:childTnLst>
                              <p:par>
                                <p:cTn id="377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80" dur="1" fill="hold">
                                    <p:stCondLst>
                                      <p:cond evt="end">
                                        <p:tn val="377"/>
                                      </p:cond>
                                    </p:stCondLst>
                                  </p:cTn>
                                  <p:tgtEl>
                                    <p:spTgt spid="3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31550"/>
                            </p:stCondLst>
                            <p:childTnLst>
                              <p:par>
                                <p:cTn id="3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32049"/>
                            </p:stCondLst>
                            <p:childTnLst>
                              <p:par>
                                <p:cTn id="386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89" dur="1" fill="hold">
                                    <p:stCondLst>
                                      <p:cond evt="end">
                                        <p:tn val="386"/>
                                      </p:cond>
                                    </p:stCondLst>
                                  </p:cTn>
                                  <p:tgtEl>
                                    <p:spTgt spid="3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35550"/>
                            </p:stCondLst>
                            <p:childTnLst>
                              <p:par>
                                <p:cTn id="3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36050"/>
                            </p:stCondLst>
                            <p:childTnLst>
                              <p:par>
                                <p:cTn id="395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98" dur="1" fill="hold">
                                    <p:stCondLst>
                                      <p:cond evt="end">
                                        <p:tn val="395"/>
                                      </p:cond>
                                    </p:stCondLst>
                                  </p:cTn>
                                  <p:tgtEl>
                                    <p:spTgt spid="3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39550"/>
                            </p:stCondLst>
                            <p:childTnLst>
                              <p:par>
                                <p:cTn id="4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40050"/>
                            </p:stCondLst>
                            <p:childTnLst>
                              <p:par>
                                <p:cTn id="404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07" dur="1" fill="hold">
                                    <p:stCondLst>
                                      <p:cond evt="end">
                                        <p:tn val="404"/>
                                      </p:cond>
                                    </p:stCondLst>
                                  </p:cTn>
                                  <p:tgtEl>
                                    <p:spTgt spid="3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43550"/>
                            </p:stCondLst>
                            <p:childTnLst>
                              <p:par>
                                <p:cTn id="4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44050"/>
                            </p:stCondLst>
                            <p:childTnLst>
                              <p:par>
                                <p:cTn id="413" nodeType="afterEffect" fill="hold" presetClass="entr" presetID="22" presetSubtype="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48550"/>
                            </p:stCondLst>
                            <p:childTnLst>
                              <p:par>
                                <p:cTn id="4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49050"/>
                            </p:stCondLst>
                            <p:childTnLst>
                              <p:par>
                                <p:cTn id="422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53550"/>
                            </p:stCondLst>
                            <p:childTnLst>
                              <p:par>
                                <p:cTn id="42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29" dur="1" fill="hold">
                                    <p:stCondLst>
                                      <p:cond evt="end">
                                        <p:tn val="426"/>
                                      </p:cond>
                                    </p:stCondLst>
                                  </p:cTn>
                                  <p:tgtEl>
                                    <p:spTgt spid="3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56050"/>
                            </p:stCondLst>
                            <p:childTnLst>
                              <p:par>
                                <p:cTn id="4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56550"/>
                            </p:stCondLst>
                            <p:childTnLst>
                              <p:par>
                                <p:cTn id="435" nodeType="after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38" dur="1" fill="hold">
                                    <p:stCondLst>
                                      <p:cond evt="end">
                                        <p:tn val="435"/>
                                      </p:cond>
                                    </p:stCondLst>
                                  </p:cTn>
                                  <p:tgtEl>
                                    <p:spTgt spid="3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61050"/>
                            </p:stCondLst>
                            <p:childTnLst>
                              <p:par>
                                <p:cTn id="4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61550"/>
                            </p:stCondLst>
                            <p:childTnLst>
                              <p:par>
                                <p:cTn id="444" nodeType="after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47" dur="1" fill="hold">
                                    <p:stCondLst>
                                      <p:cond evt="end">
                                        <p:tn val="444"/>
                                      </p:cond>
                                    </p:stCondLst>
                                  </p:cTn>
                                  <p:tgtEl>
                                    <p:spTgt spid="3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66050"/>
                            </p:stCondLst>
                            <p:childTnLst>
                              <p:par>
                                <p:cTn id="4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66550"/>
                            </p:stCondLst>
                            <p:childTnLst>
                              <p:par>
                                <p:cTn id="453" nodeType="after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56" dur="1" fill="hold">
                                    <p:stCondLst>
                                      <p:cond evt="end">
                                        <p:tn val="453"/>
                                      </p:cond>
                                    </p:stCondLst>
                                  </p:cTn>
                                  <p:tgtEl>
                                    <p:spTgt spid="3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71050"/>
                            </p:stCondLst>
                            <p:childTnLst>
                              <p:par>
                                <p:cTn id="4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71550"/>
                            </p:stCondLst>
                            <p:childTnLst>
                              <p:par>
                                <p:cTn id="462" nodeType="after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65" dur="1" fill="hold">
                                    <p:stCondLst>
                                      <p:cond evt="end">
                                        <p:tn val="462"/>
                                      </p:cond>
                                    </p:stCondLst>
                                  </p:cTn>
                                  <p:tgtEl>
                                    <p:spTgt spid="3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76050"/>
                            </p:stCondLst>
                            <p:childTnLst>
                              <p:par>
                                <p:cTn id="4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WordArt 2"/>
          <p:cNvSpPr txBox="1"/>
          <p:nvPr/>
        </p:nvSpPr>
        <p:spPr>
          <a:xfrm>
            <a:off x="609480" y="304920"/>
            <a:ext cx="524376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ractic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914400" y="16765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Write the polynomials in standard form and identify the polynomial by degree and number of term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Object 4"/>
              <p:cNvSpPr txBox="1"/>
              <p:nvPr/>
            </p:nvSpPr>
            <p:spPr>
              <a:xfrm>
                <a:off x="2590920" y="2743200"/>
                <a:ext cx="358776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31" name="Text Box 5"/>
          <p:cNvSpPr/>
          <p:nvPr/>
        </p:nvSpPr>
        <p:spPr>
          <a:xfrm>
            <a:off x="1905120" y="29718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1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2" name="Text Box 6"/>
          <p:cNvSpPr/>
          <p:nvPr/>
        </p:nvSpPr>
        <p:spPr>
          <a:xfrm>
            <a:off x="1905120" y="4648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2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Object 7"/>
              <p:cNvSpPr txBox="1"/>
              <p:nvPr/>
            </p:nvSpPr>
            <p:spPr>
              <a:xfrm>
                <a:off x="2666880" y="4495680"/>
                <a:ext cx="2971800" cy="8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0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7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6650"/>
                            </p:stCondLst>
                            <p:childTnLst>
                              <p:par>
                                <p:cTn id="4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8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92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WordArt 2"/>
          <p:cNvSpPr txBox="1"/>
          <p:nvPr/>
        </p:nvSpPr>
        <p:spPr>
          <a:xfrm rot="5400000">
            <a:off x="-1208880" y="2732760"/>
            <a:ext cx="4875480" cy="1085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Problem 1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3"/>
              <p:cNvSpPr txBox="1"/>
              <p:nvPr/>
            </p:nvSpPr>
            <p:spPr>
              <a:xfrm>
                <a:off x="2925720" y="533520"/>
                <a:ext cx="313848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4"/>
              <p:cNvSpPr txBox="1"/>
              <p:nvPr/>
            </p:nvSpPr>
            <p:spPr>
              <a:xfrm>
                <a:off x="3363840" y="1828800"/>
                <a:ext cx="218592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5"/>
              <p:cNvSpPr txBox="1"/>
              <p:nvPr/>
            </p:nvSpPr>
            <p:spPr>
              <a:xfrm>
                <a:off x="3124080" y="2666880"/>
                <a:ext cx="9572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Object 7"/>
              <p:cNvSpPr txBox="1"/>
              <p:nvPr/>
            </p:nvSpPr>
            <p:spPr>
              <a:xfrm>
                <a:off x="3962520" y="2666880"/>
                <a:ext cx="9903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Object 8"/>
              <p:cNvSpPr txBox="1"/>
              <p:nvPr/>
            </p:nvSpPr>
            <p:spPr>
              <a:xfrm>
                <a:off x="4876920" y="2743200"/>
                <a:ext cx="64908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Object 10"/>
              <p:cNvSpPr txBox="1"/>
              <p:nvPr/>
            </p:nvSpPr>
            <p:spPr>
              <a:xfrm>
                <a:off x="2757600" y="3505320"/>
                <a:ext cx="317016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7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Object 11"/>
              <p:cNvSpPr txBox="1"/>
              <p:nvPr/>
            </p:nvSpPr>
            <p:spPr>
              <a:xfrm>
                <a:off x="3367080" y="4419720"/>
                <a:ext cx="223992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3" name="Text Box 12"/>
          <p:cNvSpPr/>
          <p:nvPr/>
        </p:nvSpPr>
        <p:spPr>
          <a:xfrm>
            <a:off x="1981080" y="518148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s is a 3</a:t>
            </a:r>
            <a:r>
              <a:rPr b="0" lang="en-US" sz="2400" spc="-1" strike="noStrike" baseline="30000">
                <a:solidFill>
                  <a:srgbClr val="40458c"/>
                </a:solidFill>
                <a:latin typeface="Tahoma"/>
              </a:rPr>
              <a:t>rd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degree, or cubic, trinomi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0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12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16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524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528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532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WordArt 2"/>
          <p:cNvSpPr txBox="1"/>
          <p:nvPr/>
        </p:nvSpPr>
        <p:spPr>
          <a:xfrm rot="5400000">
            <a:off x="-1208880" y="2732760"/>
            <a:ext cx="4875480" cy="1085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Problem 2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" name="Object 3"/>
              <p:cNvSpPr txBox="1"/>
              <p:nvPr/>
            </p:nvSpPr>
            <p:spPr>
              <a:xfrm>
                <a:off x="3071880" y="533520"/>
                <a:ext cx="284472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Object 4"/>
              <p:cNvSpPr txBox="1"/>
              <p:nvPr/>
            </p:nvSpPr>
            <p:spPr>
              <a:xfrm>
                <a:off x="3465360" y="1828800"/>
                <a:ext cx="19814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Object 5"/>
              <p:cNvSpPr txBox="1"/>
              <p:nvPr/>
            </p:nvSpPr>
            <p:spPr>
              <a:xfrm>
                <a:off x="3260880" y="2666880"/>
                <a:ext cx="6825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Object 6"/>
              <p:cNvSpPr txBox="1"/>
              <p:nvPr/>
            </p:nvSpPr>
            <p:spPr>
              <a:xfrm>
                <a:off x="3962520" y="2743200"/>
                <a:ext cx="85248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Object 7"/>
              <p:cNvSpPr txBox="1"/>
              <p:nvPr/>
            </p:nvSpPr>
            <p:spPr>
              <a:xfrm>
                <a:off x="4876920" y="2743200"/>
                <a:ext cx="54612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1" name="Text Box 10"/>
          <p:cNvSpPr/>
          <p:nvPr/>
        </p:nvSpPr>
        <p:spPr>
          <a:xfrm>
            <a:off x="1905120" y="38862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s is a 2</a:t>
            </a:r>
            <a:r>
              <a:rPr b="0" lang="en-US" sz="2400" spc="-1" strike="noStrike" baseline="30000">
                <a:solidFill>
                  <a:srgbClr val="40458c"/>
                </a:solidFill>
                <a:latin typeface="Tahoma"/>
              </a:rPr>
              <a:t>nd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degree, or quadratic, trinomi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0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1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55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559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563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WordArt 2"/>
          <p:cNvSpPr txBox="1"/>
          <p:nvPr/>
        </p:nvSpPr>
        <p:spPr>
          <a:xfrm>
            <a:off x="609480" y="304920"/>
            <a:ext cx="52149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Objective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914400" y="2133720"/>
            <a:ext cx="7620120" cy="193788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40458c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e able to determine the degree of a polynomi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1500"/>
              </a:spcBef>
              <a:buClr>
                <a:srgbClr val="40458c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e able to classify a polynomi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1500"/>
              </a:spcBef>
              <a:buClr>
                <a:srgbClr val="40458c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e able to write a polynomial in standard form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36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WordArt 2"/>
          <p:cNvSpPr txBox="1"/>
          <p:nvPr/>
        </p:nvSpPr>
        <p:spPr>
          <a:xfrm>
            <a:off x="609480" y="304920"/>
            <a:ext cx="5367600" cy="108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Vocabulary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609480" y="14479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Monomial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A number, a variable or the product of a number and one or more variabl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609480" y="25146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Polynomial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A monomial or a sum of monomial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609480" y="3429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Binomial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A polynomial with exactly two term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609480" y="44197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Trinomial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A polynomial with exactly three term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5" name="Text Box 10"/>
          <p:cNvSpPr/>
          <p:nvPr/>
        </p:nvSpPr>
        <p:spPr>
          <a:xfrm>
            <a:off x="609480" y="548640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Coefficient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A numerical factor in a term of an algebraic expressio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675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8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6525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8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7525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8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3875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8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WordArt 2"/>
          <p:cNvSpPr txBox="1"/>
          <p:nvPr/>
        </p:nvSpPr>
        <p:spPr>
          <a:xfrm>
            <a:off x="609480" y="304920"/>
            <a:ext cx="5367600" cy="108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Vocabulary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609480" y="182880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Degree of a monomial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The sum of the exponents of all of the variables in the monomi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609480" y="312408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Degree of a polynomial in one variable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The largest exponent of that variabl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609480" y="449568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Standard form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When the terms of a polynomial are arranged from the largest exponent to the smallest exponent in decreasing orde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825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8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8775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8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WordArt 2"/>
          <p:cNvSpPr txBox="1"/>
          <p:nvPr/>
        </p:nvSpPr>
        <p:spPr>
          <a:xfrm>
            <a:off x="685800" y="380880"/>
            <a:ext cx="6224760" cy="11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Degree of a Monomia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1600200" y="16765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What is the degree of the monomial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Object 4"/>
              <p:cNvSpPr txBox="1"/>
              <p:nvPr/>
            </p:nvSpPr>
            <p:spPr>
              <a:xfrm>
                <a:off x="3429000" y="2057400"/>
                <a:ext cx="129528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5" name="Text Box 5"/>
          <p:cNvSpPr/>
          <p:nvPr/>
        </p:nvSpPr>
        <p:spPr>
          <a:xfrm>
            <a:off x="685800" y="274320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degree of a monomial is the sum of the exponents of the variables in the monomi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6" name="Text Box 8"/>
          <p:cNvSpPr/>
          <p:nvPr/>
        </p:nvSpPr>
        <p:spPr>
          <a:xfrm>
            <a:off x="685800" y="3657600"/>
            <a:ext cx="81532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exponents of each variable are 4 and 2.  4+2 = 6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degree of the monomial is 6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monomial can be referred to as a sixth degree monomi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675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3175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2425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2545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WordArt 2"/>
          <p:cNvSpPr txBox="1"/>
          <p:nvPr/>
        </p:nvSpPr>
        <p:spPr>
          <a:xfrm>
            <a:off x="990720" y="380880"/>
            <a:ext cx="7386480" cy="108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Polynomials in One Variabl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609480" y="18288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 polynomial is a monomial or the sum of monomial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Object 4"/>
              <p:cNvSpPr txBox="1"/>
              <p:nvPr/>
            </p:nvSpPr>
            <p:spPr>
              <a:xfrm>
                <a:off x="1219320" y="2438280"/>
                <a:ext cx="7617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5"/>
              <p:cNvSpPr txBox="1"/>
              <p:nvPr/>
            </p:nvSpPr>
            <p:spPr>
              <a:xfrm>
                <a:off x="2743200" y="2438280"/>
                <a:ext cx="13716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6"/>
              <p:cNvSpPr txBox="1"/>
              <p:nvPr/>
            </p:nvSpPr>
            <p:spPr>
              <a:xfrm>
                <a:off x="4876920" y="2438280"/>
                <a:ext cx="254628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3" name="Text Box 7"/>
          <p:cNvSpPr/>
          <p:nvPr/>
        </p:nvSpPr>
        <p:spPr>
          <a:xfrm>
            <a:off x="609480" y="3200400"/>
            <a:ext cx="82296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ach monomial in a polynomial is a term of the polynomi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number factor of a term is called the coefficient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coefficient of the first term in a polynomial is the </a:t>
            </a:r>
            <a:r>
              <a:rPr b="1" i="1" lang="en-US" sz="2400" spc="-1" strike="noStrike">
                <a:solidFill>
                  <a:srgbClr val="40458c"/>
                </a:solidFill>
                <a:latin typeface="Tahoma"/>
              </a:rPr>
              <a:t>lead coefficient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500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 polynomial with two terms is called a </a:t>
            </a:r>
            <a:r>
              <a:rPr b="1" i="1" lang="en-US" sz="2400" spc="-1" strike="noStrike">
                <a:solidFill>
                  <a:srgbClr val="40458c"/>
                </a:solidFill>
                <a:latin typeface="Tahoma"/>
              </a:rPr>
              <a:t>binomi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500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 polynomial with three terms is called a </a:t>
            </a:r>
            <a:r>
              <a:rPr b="1" i="1" lang="en-US" sz="2400" spc="-1" strike="noStrike">
                <a:solidFill>
                  <a:srgbClr val="40458c"/>
                </a:solidFill>
                <a:latin typeface="Tahoma"/>
              </a:rPr>
              <a:t>trinomi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3575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4075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8575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3075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0675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805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367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43775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WordArt 3"/>
          <p:cNvSpPr txBox="1"/>
          <p:nvPr/>
        </p:nvSpPr>
        <p:spPr>
          <a:xfrm>
            <a:off x="990720" y="380880"/>
            <a:ext cx="7386480" cy="108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Polynomials in One Variabl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4"/>
              <p:cNvSpPr txBox="1"/>
              <p:nvPr/>
            </p:nvSpPr>
            <p:spPr>
              <a:xfrm>
                <a:off x="552600" y="3352680"/>
                <a:ext cx="11808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5"/>
              <p:cNvSpPr txBox="1"/>
              <p:nvPr/>
            </p:nvSpPr>
            <p:spPr>
              <a:xfrm>
                <a:off x="609480" y="5105520"/>
                <a:ext cx="1371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6"/>
              <p:cNvSpPr txBox="1"/>
              <p:nvPr/>
            </p:nvSpPr>
            <p:spPr>
              <a:xfrm>
                <a:off x="533520" y="4114800"/>
                <a:ext cx="254628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9" name="Text Box 7"/>
          <p:cNvSpPr/>
          <p:nvPr/>
        </p:nvSpPr>
        <p:spPr>
          <a:xfrm>
            <a:off x="685800" y="167652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degree of a polynomial in one variable is the largest exponent of that variabl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Object 8"/>
              <p:cNvSpPr txBox="1"/>
              <p:nvPr/>
            </p:nvSpPr>
            <p:spPr>
              <a:xfrm>
                <a:off x="914400" y="2590920"/>
                <a:ext cx="47304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1" name="Text Box 9"/>
          <p:cNvSpPr/>
          <p:nvPr/>
        </p:nvSpPr>
        <p:spPr>
          <a:xfrm>
            <a:off x="1523880" y="274320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A constant has no variable.  It is a 0 degree polynomial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2" name="Text Box 11"/>
          <p:cNvSpPr/>
          <p:nvPr/>
        </p:nvSpPr>
        <p:spPr>
          <a:xfrm>
            <a:off x="1600200" y="34290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his is a 1</a:t>
            </a:r>
            <a:r>
              <a:rPr b="0" lang="en-US" sz="1800" spc="-1" strike="noStrike" baseline="30000">
                <a:solidFill>
                  <a:srgbClr val="40458c"/>
                </a:solidFill>
                <a:latin typeface="Tahoma"/>
              </a:rPr>
              <a:t>st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degree polynomial.  1</a:t>
            </a:r>
            <a:r>
              <a:rPr b="0" lang="en-US" sz="1800" spc="-1" strike="noStrike" baseline="30000">
                <a:solidFill>
                  <a:srgbClr val="40458c"/>
                </a:solidFill>
                <a:latin typeface="Tahoma"/>
              </a:rPr>
              <a:t>st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degree polynomials are </a:t>
            </a:r>
            <a:r>
              <a:rPr b="1" i="1" lang="en-US" sz="1800" spc="-1" strike="noStrike">
                <a:solidFill>
                  <a:srgbClr val="40458c"/>
                </a:solidFill>
                <a:latin typeface="Tahoma"/>
              </a:rPr>
              <a:t>linear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3" name="Text Box 12"/>
          <p:cNvSpPr/>
          <p:nvPr/>
        </p:nvSpPr>
        <p:spPr>
          <a:xfrm>
            <a:off x="2971800" y="411480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his is a 2</a:t>
            </a:r>
            <a:r>
              <a:rPr b="0" lang="en-US" sz="1800" spc="-1" strike="noStrike" baseline="30000">
                <a:solidFill>
                  <a:srgbClr val="40458c"/>
                </a:solidFill>
                <a:latin typeface="Tahoma"/>
              </a:rPr>
              <a:t>nd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degree polynomial.  2</a:t>
            </a:r>
            <a:r>
              <a:rPr b="0" lang="en-US" sz="1800" spc="-1" strike="noStrike" baseline="30000">
                <a:solidFill>
                  <a:srgbClr val="40458c"/>
                </a:solidFill>
                <a:latin typeface="Tahoma"/>
              </a:rPr>
              <a:t>nd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degree polynomials are </a:t>
            </a:r>
            <a:r>
              <a:rPr b="1" i="1" lang="en-US" sz="1800" spc="-1" strike="noStrike">
                <a:solidFill>
                  <a:srgbClr val="40458c"/>
                </a:solidFill>
                <a:latin typeface="Tahoma"/>
              </a:rPr>
              <a:t>quadratic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4" name="Text Box 13"/>
          <p:cNvSpPr/>
          <p:nvPr/>
        </p:nvSpPr>
        <p:spPr>
          <a:xfrm>
            <a:off x="2133720" y="51814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his is a 3</a:t>
            </a:r>
            <a:r>
              <a:rPr b="0" lang="en-US" sz="1800" spc="-1" strike="noStrike" baseline="30000">
                <a:solidFill>
                  <a:srgbClr val="40458c"/>
                </a:solidFill>
                <a:latin typeface="Tahoma"/>
              </a:rPr>
              <a:t>rd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degree polynomial.  3</a:t>
            </a:r>
            <a:r>
              <a:rPr b="0" lang="en-US" sz="1800" spc="-1" strike="noStrike" baseline="30000">
                <a:solidFill>
                  <a:srgbClr val="40458c"/>
                </a:solidFill>
                <a:latin typeface="Tahoma"/>
              </a:rPr>
              <a:t>rd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degree polynomials are </a:t>
            </a:r>
            <a:r>
              <a:rPr b="1" i="1" lang="en-US" sz="1800" spc="-1" strike="noStrike">
                <a:solidFill>
                  <a:srgbClr val="40458c"/>
                </a:solidFill>
                <a:latin typeface="Tahoma"/>
              </a:rPr>
              <a:t>cubic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25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177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22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30475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34975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43475"/>
                            </p:stCondLst>
                            <p:childTnLst>
                              <p:par>
                                <p:cTn id="161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47975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3"/>
          <p:cNvSpPr/>
          <p:nvPr/>
        </p:nvSpPr>
        <p:spPr>
          <a:xfrm>
            <a:off x="762120" y="17524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lassify the polynomials by degree and number of term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7" name="WordArt 4"/>
          <p:cNvSpPr txBox="1"/>
          <p:nvPr/>
        </p:nvSpPr>
        <p:spPr>
          <a:xfrm>
            <a:off x="609480" y="380880"/>
            <a:ext cx="4595760" cy="8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xample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1219320" y="26668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Polynomial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9" name="Text Box 6"/>
          <p:cNvSpPr/>
          <p:nvPr/>
        </p:nvSpPr>
        <p:spPr>
          <a:xfrm>
            <a:off x="609480" y="3124080"/>
            <a:ext cx="38124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a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b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Object 7"/>
              <p:cNvSpPr txBox="1"/>
              <p:nvPr/>
            </p:nvSpPr>
            <p:spPr>
              <a:xfrm>
                <a:off x="1676520" y="3124080"/>
                <a:ext cx="2934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Object 8"/>
              <p:cNvSpPr txBox="1"/>
              <p:nvPr/>
            </p:nvSpPr>
            <p:spPr>
              <a:xfrm>
                <a:off x="1219320" y="3886200"/>
                <a:ext cx="10760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Object 9"/>
              <p:cNvSpPr txBox="1"/>
              <p:nvPr/>
            </p:nvSpPr>
            <p:spPr>
              <a:xfrm>
                <a:off x="1203480" y="4692600"/>
                <a:ext cx="123984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Object 10"/>
              <p:cNvSpPr txBox="1"/>
              <p:nvPr/>
            </p:nvSpPr>
            <p:spPr>
              <a:xfrm>
                <a:off x="914400" y="5486400"/>
                <a:ext cx="186048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4" name="Text Box 11"/>
          <p:cNvSpPr/>
          <p:nvPr/>
        </p:nvSpPr>
        <p:spPr>
          <a:xfrm>
            <a:off x="2971800" y="26668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egre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5" name="Text Box 12"/>
          <p:cNvSpPr/>
          <p:nvPr/>
        </p:nvSpPr>
        <p:spPr>
          <a:xfrm>
            <a:off x="4191120" y="2362320"/>
            <a:ext cx="176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lassify by degre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6" name="Text Box 13"/>
          <p:cNvSpPr/>
          <p:nvPr/>
        </p:nvSpPr>
        <p:spPr>
          <a:xfrm>
            <a:off x="6400800" y="213372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lassify by number of term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7" name="Text Box 14"/>
          <p:cNvSpPr/>
          <p:nvPr/>
        </p:nvSpPr>
        <p:spPr>
          <a:xfrm>
            <a:off x="3124080" y="31240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Zero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8" name="Line 15"/>
          <p:cNvSpPr/>
          <p:nvPr/>
        </p:nvSpPr>
        <p:spPr>
          <a:xfrm>
            <a:off x="914400" y="3048120"/>
            <a:ext cx="7620120" cy="0"/>
          </a:xfrm>
          <a:prstGeom prst="line">
            <a:avLst/>
          </a:prstGeom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4572000" y="3124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onstant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0" name="Text Box 17"/>
          <p:cNvSpPr/>
          <p:nvPr/>
        </p:nvSpPr>
        <p:spPr>
          <a:xfrm>
            <a:off x="6705720" y="3124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onomial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1" name="Text Box 18"/>
          <p:cNvSpPr/>
          <p:nvPr/>
        </p:nvSpPr>
        <p:spPr>
          <a:xfrm>
            <a:off x="3124080" y="39625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First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2" name="Text Box 19"/>
          <p:cNvSpPr/>
          <p:nvPr/>
        </p:nvSpPr>
        <p:spPr>
          <a:xfrm>
            <a:off x="4572000" y="39625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Linear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3" name="Text Box 20"/>
          <p:cNvSpPr/>
          <p:nvPr/>
        </p:nvSpPr>
        <p:spPr>
          <a:xfrm>
            <a:off x="6705720" y="39625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Binomial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4" name="Text Box 21"/>
          <p:cNvSpPr/>
          <p:nvPr/>
        </p:nvSpPr>
        <p:spPr>
          <a:xfrm>
            <a:off x="3124080" y="48006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econ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5" name="Text Box 22"/>
          <p:cNvSpPr/>
          <p:nvPr/>
        </p:nvSpPr>
        <p:spPr>
          <a:xfrm>
            <a:off x="4572000" y="48006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Quadratic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6" name="Text Box 23"/>
          <p:cNvSpPr/>
          <p:nvPr/>
        </p:nvSpPr>
        <p:spPr>
          <a:xfrm>
            <a:off x="6705720" y="48006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Binomial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7" name="Text Box 24"/>
          <p:cNvSpPr/>
          <p:nvPr/>
        </p:nvSpPr>
        <p:spPr>
          <a:xfrm>
            <a:off x="3124080" y="55627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hir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8" name="Text Box 25"/>
          <p:cNvSpPr/>
          <p:nvPr/>
        </p:nvSpPr>
        <p:spPr>
          <a:xfrm>
            <a:off x="4572000" y="55627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ubic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9" name="Text Box 26"/>
          <p:cNvSpPr/>
          <p:nvPr/>
        </p:nvSpPr>
        <p:spPr>
          <a:xfrm>
            <a:off x="6705720" y="54864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rinomial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0" name="Line 27"/>
          <p:cNvSpPr/>
          <p:nvPr/>
        </p:nvSpPr>
        <p:spPr>
          <a:xfrm>
            <a:off x="2819520" y="3048120"/>
            <a:ext cx="0" cy="3047760"/>
          </a:xfrm>
          <a:prstGeom prst="line">
            <a:avLst/>
          </a:prstGeom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1" name="Line 28"/>
          <p:cNvSpPr/>
          <p:nvPr/>
        </p:nvSpPr>
        <p:spPr>
          <a:xfrm>
            <a:off x="4267080" y="3048120"/>
            <a:ext cx="0" cy="3047760"/>
          </a:xfrm>
          <a:prstGeom prst="line">
            <a:avLst/>
          </a:prstGeom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2" name="Line 29"/>
          <p:cNvSpPr/>
          <p:nvPr/>
        </p:nvSpPr>
        <p:spPr>
          <a:xfrm>
            <a:off x="6095880" y="3048120"/>
            <a:ext cx="0" cy="3047760"/>
          </a:xfrm>
          <a:prstGeom prst="line">
            <a:avLst/>
          </a:prstGeom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3" name="Line 30"/>
          <p:cNvSpPr/>
          <p:nvPr/>
        </p:nvSpPr>
        <p:spPr>
          <a:xfrm>
            <a:off x="914400" y="3657600"/>
            <a:ext cx="7620120" cy="0"/>
          </a:xfrm>
          <a:prstGeom prst="line">
            <a:avLst/>
          </a:prstGeom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4" name="Line 31"/>
          <p:cNvSpPr/>
          <p:nvPr/>
        </p:nvSpPr>
        <p:spPr>
          <a:xfrm>
            <a:off x="914400" y="4572000"/>
            <a:ext cx="7620120" cy="0"/>
          </a:xfrm>
          <a:prstGeom prst="line">
            <a:avLst/>
          </a:prstGeom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5" name="Line 32"/>
          <p:cNvSpPr/>
          <p:nvPr/>
        </p:nvSpPr>
        <p:spPr>
          <a:xfrm>
            <a:off x="914400" y="5334120"/>
            <a:ext cx="7620120" cy="0"/>
          </a:xfrm>
          <a:prstGeom prst="line">
            <a:avLst/>
          </a:prstGeom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4025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7525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8025"/>
                            </p:stCondLst>
                            <p:childTnLst>
                              <p:par>
                                <p:cTn id="1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8525"/>
                            </p:stCondLst>
                            <p:childTnLst>
                              <p:par>
                                <p:cTn id="1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9025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2525"/>
                            </p:stCondLst>
                            <p:childTnLst>
                              <p:par>
                                <p:cTn id="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13025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3525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4025"/>
                            </p:stCondLst>
                            <p:childTnLst>
                              <p:par>
                                <p:cTn id="2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4525"/>
                            </p:stCondLst>
                            <p:childTnLst>
                              <p:par>
                                <p:cTn id="2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5025"/>
                            </p:stCondLst>
                            <p:childTnLst>
                              <p:par>
                                <p:cTn id="2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15525"/>
                            </p:stCondLst>
                            <p:childTnLst>
                              <p:par>
                                <p:cTn id="2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6024"/>
                            </p:stCondLst>
                            <p:childTnLst>
                              <p:par>
                                <p:cTn id="2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6525"/>
                            </p:stCondLst>
                            <p:childTnLst>
                              <p:par>
                                <p:cTn id="2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17025"/>
                            </p:stCondLst>
                            <p:childTnLst>
                              <p:par>
                                <p:cTn id="2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17525"/>
                            </p:stCondLst>
                            <p:childTnLst>
                              <p:par>
                                <p:cTn id="2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8025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22525"/>
                            </p:stCondLst>
                            <p:childTnLst>
                              <p:par>
                                <p:cTn id="251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27025"/>
                            </p:stCondLst>
                            <p:childTnLst>
                              <p:par>
                                <p:cTn id="255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31525"/>
                            </p:stCondLst>
                            <p:childTnLst>
                              <p:par>
                                <p:cTn id="259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36025"/>
                            </p:stCondLst>
                            <p:childTnLst>
                              <p:par>
                                <p:cTn id="263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40525"/>
                            </p:stCondLst>
                            <p:childTnLst>
                              <p:par>
                                <p:cTn id="267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45025"/>
                            </p:stCondLst>
                            <p:childTnLst>
                              <p:par>
                                <p:cTn id="271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49525"/>
                            </p:stCondLst>
                            <p:childTnLst>
                              <p:par>
                                <p:cTn id="275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54025"/>
                            </p:stCondLst>
                            <p:childTnLst>
                              <p:par>
                                <p:cTn id="279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8525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63025"/>
                            </p:stCondLst>
                            <p:childTnLst>
                              <p:par>
                                <p:cTn id="287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68525"/>
                            </p:stCondLst>
                            <p:childTnLst>
                              <p:par>
                                <p:cTn id="291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WordArt 2"/>
          <p:cNvSpPr txBox="1"/>
          <p:nvPr/>
        </p:nvSpPr>
        <p:spPr>
          <a:xfrm>
            <a:off x="609480" y="380880"/>
            <a:ext cx="5800680" cy="85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Standard For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914400" y="2438280"/>
            <a:ext cx="784872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o rewrite a polynomial in standard form, rearrange the terms of the polynomial starting with the largest degree term and ending with the lowest degree term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500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</a:t>
            </a:r>
            <a:r>
              <a:rPr b="1" i="1" lang="en-US" sz="2400" spc="-1" strike="noStrike">
                <a:solidFill>
                  <a:srgbClr val="40458c"/>
                </a:solidFill>
                <a:latin typeface="Tahoma"/>
              </a:rPr>
              <a:t>leading coefficient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, the coefficient of the first term in a polynomial written in standard form, should be positiv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10400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5T17:25:23Z</dcterms:created>
  <dc:creator>Curriculum and Professional Development</dc:creator>
  <dc:description/>
  <dc:language>en-US</dc:language>
  <cp:lastModifiedBy>LEGION</cp:lastModifiedBy>
  <dcterms:modified xsi:type="dcterms:W3CDTF">2017-07-06T06:36:43Z</dcterms:modified>
  <cp:revision>11</cp:revision>
  <dc:subject/>
  <dc:title>PowerPoint Presentation</dc:title>
</cp:coreProperties>
</file>